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4825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273F-B225-480D-99DF-82FCFC7A5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B048-7789-4EB2-AC74-AF69CCD22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D7CD-B151-40EE-83B1-260E8128C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9847-EE38-4838-B7D2-48B8F6049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2E2A-E3E7-4546-9AED-3098EE8DB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764F-7E48-4726-A98E-3AAE14D5C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3B05-FFB4-4B28-906A-79E5AB771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0962-38DF-42D0-A50C-04DE906F4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5519-AA35-4AD9-B2BF-B7F662FCF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9F30-B5C6-49FB-9C38-B4AB64F81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BF85-105C-4A76-B2A3-6BD0DB536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DDA7-2B9F-41FD-B97D-2604152F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B7D11-FF93-4C6F-AECE-48EDB8C566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76520" y="317520"/>
            <a:ext cx="5486400" cy="5613480"/>
            <a:chOff x="1676520" y="317520"/>
            <a:chExt cx="5486400" cy="5613480"/>
          </a:xfrm>
        </p:grpSpPr>
        <p:sp>
          <p:nvSpPr>
            <p:cNvPr id="42" name=""/>
            <p:cNvSpPr/>
            <p:nvPr/>
          </p:nvSpPr>
          <p:spPr>
            <a:xfrm>
              <a:off x="1676520" y="1003320"/>
              <a:ext cx="1143000" cy="987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BJECTIF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819520" y="1003320"/>
              <a:ext cx="4343400" cy="987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'assurer que 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- la réglementation est respectée (affichage de la tarification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- le plan d'affichage défini est mis en oeuvr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- la P.L.V. est actualisé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76520" y="1984320"/>
              <a:ext cx="1143000" cy="987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ATURE DES RISQU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819520" y="1984320"/>
              <a:ext cx="4343400" cy="987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on-respect de la réglement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iffusion d'une information périmée ou erroné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- Affichage incohérent par rapport aux actions commerciales en cour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2971800"/>
              <a:ext cx="1143000" cy="987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UPPORTS DE CONTROL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819520" y="2971800"/>
              <a:ext cx="4343400" cy="987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- Affiches Conditions Général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ffiches et P.L.V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-  Communiqués Publicité du développemen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76520" y="3952800"/>
              <a:ext cx="1143000" cy="1978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NTROLES POSSIBLES A EFFECTU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19520" y="3952800"/>
              <a:ext cx="4343400" cy="1978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ntrôler la présence dans les locaux accessibles au public de l'affiche Conditions Générales (avec tarifs à jour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- Veiller à la présence des moyens nécessaires à l'affichage et à la P.L.V. (porte-affiches, présentoirs ...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- S'assurer que les affiches et la P.L.V. sont conformes au plan d'affichag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ériodicité : contrôle semestrie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676520" y="317520"/>
              <a:ext cx="114300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ICH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ETHOD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819520" y="317520"/>
              <a:ext cx="434340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FONCTIONNEMEN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nformation clientèl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1601640" y="6084720"/>
            <a:ext cx="5805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chéma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Le dispositif de contrôle – Information clientèle agence banca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240" y="-103356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7311960"/>
            <a:ext cx="914400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828800" y="457200"/>
            <a:ext cx="5847840" cy="5359320"/>
            <a:chOff x="1828800" y="457200"/>
            <a:chExt cx="5847840" cy="5359320"/>
          </a:xfrm>
        </p:grpSpPr>
        <p:sp>
          <p:nvSpPr>
            <p:cNvPr id="56" name=""/>
            <p:cNvSpPr/>
            <p:nvPr/>
          </p:nvSpPr>
          <p:spPr>
            <a:xfrm>
              <a:off x="1828800" y="826920"/>
              <a:ext cx="5847840" cy="4311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NATURE ET ETENDUE DES CONTROL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Nature des contrôles</a:t>
              </a: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: 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lle porte sur les différents contrôles possibles à effectuer. Elle dépend de " l'analyse générale et préalable du risque " qu'aura effectuée le Manager, en liaison notamment avec son Responsable Hiérarchique. Les contrôles à effectuer seront d'autant plus variés et précis que le risque apparaîtra important et plus ciblé. Les facteurs aggravants de risque sont divers : événements nouveaux (nouvelle procédure , nouvel environnement ...), " indicateurs d'alerte " (augmentation des débiteurs &gt; 30 jours ...), mission d'inspection ayant révélé des dysfonctionnements, connaissance propre du Directeur d'agence sur des zones à risques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Etendue des contrôles</a:t>
              </a: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: 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l s'agit de l'importance plus ou moins grande de l'échantillon de contrôle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ANOMALIES CONSTATE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MESURES CORRECTRIC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l convient de rappeler l'importance des actions correctrices et la nécessité d'un suivi de qualité desdites actions (rappels de procédures, formations internes, mise en oeuvre d'outils de suivi ...)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621960" y="457200"/>
              <a:ext cx="405468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THEME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: </a:t>
              </a: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Noter dans cette rubrique les intitulés des fiches méthod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828800" y="457200"/>
              <a:ext cx="179316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ICH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YPE DE CONTRO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828800" y="5130720"/>
              <a:ext cx="187128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700080" y="5130720"/>
              <a:ext cx="19494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om et visa du manag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649480" y="5130720"/>
              <a:ext cx="202716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om et visa du hiérarchiqu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828800" y="5359320"/>
              <a:ext cx="187128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700080" y="5359320"/>
              <a:ext cx="19494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649480" y="5359320"/>
              <a:ext cx="202716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2914560" y="594360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chéma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Le fiche de contrôle – Agence banca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502000" y="6039000"/>
            <a:ext cx="3997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chéma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Le fiche de contrôle – Agence banca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927000" y="512640"/>
            <a:ext cx="7335720" cy="5391000"/>
            <a:chOff x="927000" y="512640"/>
            <a:chExt cx="7335720" cy="5391000"/>
          </a:xfrm>
        </p:grpSpPr>
        <p:sp>
          <p:nvSpPr>
            <p:cNvPr id="68" name=""/>
            <p:cNvSpPr/>
            <p:nvPr/>
          </p:nvSpPr>
          <p:spPr>
            <a:xfrm>
              <a:off x="2247120" y="91188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rocédures et publications internes, archivag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247120" y="111168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nformation clientèl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47120" y="131112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egistre de servic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247120" y="151092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raitement du courrier, NPAI, domicilié à l’agence, réclamation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47120" y="171072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Équipements et consignes de sécurité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247120" y="191016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ensibilisation du personne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47120" y="210996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onfidentialité informatiqu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247120" y="230976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aisse fran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247120" y="250920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GA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247120" y="270900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evis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247120" y="290880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hèques de voyag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247120" y="310824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Bons d’épargn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247120" y="330804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héquiers de banqu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247120" y="350784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artes clientèl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47120" y="370728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artes capturé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247120" y="390708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Livrets vierg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247120" y="410688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Livrets en dépô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247120" y="430632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hèques aller compensation retournés impayé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247120" y="450612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Ouvertures de comptes-chèqu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247120" y="470592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rêts à la consomm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247120" y="490536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itr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47120" y="510516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Livrets en anomali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247120" y="530496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pplication des dispositions anti-blanchimen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247120" y="550440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Opposition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47120" y="570420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offres clientèl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247120" y="512640"/>
              <a:ext cx="4695120" cy="39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Thèmes de contrôl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27000" y="512640"/>
              <a:ext cx="1320120" cy="39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Rubriqu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27000" y="911880"/>
              <a:ext cx="1320120" cy="798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Fonctionnemen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927000" y="1710720"/>
              <a:ext cx="1320120" cy="599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écurité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927000" y="2309760"/>
              <a:ext cx="1320120" cy="599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Fond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27000" y="2908800"/>
              <a:ext cx="1320120" cy="159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Valeur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927000" y="4506120"/>
              <a:ext cx="1320120" cy="39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lientèle de particulier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927000" y="4905360"/>
              <a:ext cx="1320120" cy="99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Activités communes à différents marché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942600" y="512640"/>
              <a:ext cx="1320120" cy="39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Dates des contrôl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942600" y="91188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942600" y="111168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942600" y="131112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942600" y="151092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942600" y="171072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942600" y="191016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942600" y="210996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942600" y="230976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942600" y="250920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942600" y="270900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942600" y="290880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942600" y="310824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942600" y="330804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942600" y="350784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942600" y="370728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942600" y="390708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942600" y="410688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942600" y="430632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42600" y="450612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942600" y="470592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42600" y="490536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942600" y="510516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942600" y="530496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942600" y="550440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42600" y="570420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10:02:01Z</dcterms:created>
  <dc:creator>HPM</dc:creator>
  <dc:description/>
  <dc:language>en-US</dc:language>
  <cp:lastModifiedBy>rochas</cp:lastModifiedBy>
  <dcterms:modified xsi:type="dcterms:W3CDTF">2006-08-03T09:15:14Z</dcterms:modified>
  <cp:revision>79</cp:revision>
  <dc:subject/>
  <dc:title>Présentation PowerPoint</dc:title>
</cp:coreProperties>
</file>